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1F59-6E96-4925-A815-08BCA7631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2E1D-2070-482C-9FEE-7F4DC146038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C86-F335-428B-A709-E2CB9FD1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C01-766B-4E1B-A483-FCB2D70C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721-E02E-4468-8E5F-AB31B956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F0D-0915-4C2D-B73F-4C13D84B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CCB-05F3-4756-8508-15BF8801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329-3C7F-4C74-A7D0-4FCDEDF0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38C-FBF6-4CA7-ADB8-CC1F3AA6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7D1-0A95-4F07-B7A0-7F863D50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11C-C9AE-467D-981F-4BF2495D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652-C446-4321-BA64-0E9157A4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879-B6EB-4AEC-9FAD-658190EF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DD2-C31E-422E-9711-D9927D74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CA4F-4DDA-475A-9C25-83B51F0A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zcurriculum.tki.org.nz/" TargetMode="External"/><Relationship Id="rId3" Type="http://schemas.openxmlformats.org/officeDocument/2006/relationships/hyperlink" Target="http://nzcurriculum.tki.org.nz/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35280" y="198900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Narrow"/>
              </a:rPr>
              <a:t>Sector Leaders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3573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2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February 2008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5400" spc="-1" strike="noStrike">
                <a:solidFill>
                  <a:srgbClr val="000000"/>
                </a:solidFill>
                <a:latin typeface="Monotype Corsiva"/>
              </a:rPr>
              <a:t>Te Āhua o te Ākonga ka Pu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5589720"/>
            <a:ext cx="6985080" cy="1268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Sans Unicode"/>
              </a:rPr>
              <a:t>TE KAUPAPA MARAUTANGA O 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944720" cy="1220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5157720"/>
            <a:ext cx="244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301920" cy="4680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80000" y="1268280"/>
            <a:ext cx="511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Sans Unicode"/>
              </a:rPr>
              <a:t>Preparing our Children for 21</a:t>
            </a:r>
            <a:r>
              <a:rPr b="0" lang="en-NZ" sz="2400" spc="-1" strike="noStrike" baseline="30000">
                <a:solidFill>
                  <a:srgbClr val="000000"/>
                </a:solidFill>
                <a:latin typeface="Lucida Sans Unicode"/>
              </a:rPr>
              <a:t>st</a:t>
            </a:r>
            <a:r>
              <a:rPr b="0" lang="en-NZ" sz="2400" spc="-1" strike="noStrike">
                <a:solidFill>
                  <a:srgbClr val="000000"/>
                </a:solidFill>
                <a:latin typeface="Lucida Sans Unicode"/>
              </a:rPr>
              <a:t> Century Learning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Sans Unicode"/>
              </a:rPr>
              <a:t>Life-long Learner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Sans Unicode"/>
              </a:rPr>
              <a:t>Proud to be Māori while participating in National and Global Communities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Sans Unicode"/>
              </a:rPr>
              <a:t>Aspire to the Educational Achievements of your ancestors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0000"/>
                </a:solidFill>
                <a:latin typeface="Monotype Corsiva"/>
              </a:rPr>
              <a:t>The Graduate Prof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5589720"/>
            <a:ext cx="6985080" cy="1268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Sans Unicode"/>
              </a:rPr>
              <a:t>TE KAUPAPA MARAUTANGA O 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944720" cy="1220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5157720"/>
            <a:ext cx="244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30192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76720" y="83664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As a result of the school working with its community, whänau, hapü and iwi, graduates of Mäori medium programme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Have high academic, cultural and social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Have a wide range of life skills/ career cho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Contribute to well-being of wh</a:t>
            </a:r>
            <a:r>
              <a:rPr b="0" lang="en-NZ" sz="2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ä</a:t>
            </a: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nau, hap</a:t>
            </a:r>
            <a:r>
              <a:rPr b="0" lang="en-NZ" sz="2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ü, häpori, iwi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360" y="364500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What are the implications of partnership curriculum documents for school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3573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920" y="328464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How could we share resources as we develop them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3573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35280" y="1850760"/>
            <a:ext cx="6408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3573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40000" y="148428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Outline of the d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3573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3213000"/>
            <a:ext cx="7921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progress to date and issues that have ar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evelop understanding of the sector leader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NZC resources and Te Marautanga o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tearo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ctivities to use with clust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40000" y="83664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What will support look like?</a:t>
            </a: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2565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8840" y="2421000"/>
            <a:ext cx="492336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or leaders’ day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3716280"/>
            <a:ext cx="172872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3716280"/>
            <a:ext cx="172872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3716280"/>
            <a:ext cx="172872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3716280"/>
            <a:ext cx="172872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229360"/>
            <a:ext cx="107928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5229360"/>
            <a:ext cx="107964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5229360"/>
            <a:ext cx="107964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5229360"/>
            <a:ext cx="107964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5229360"/>
            <a:ext cx="107964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5229360"/>
            <a:ext cx="107964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5229360"/>
            <a:ext cx="107928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050560" y="3141720"/>
            <a:ext cx="505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34920" y="3141720"/>
            <a:ext cx="142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3141720"/>
            <a:ext cx="142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314172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0920" y="321300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900000" y="4653000"/>
            <a:ext cx="14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4653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84360" y="198900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Resourc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3573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3500280"/>
            <a:ext cx="7345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National Curriculum to School’s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 Marautanga o Aotearoa (Draf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New Zealand Curriculum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ZCurriculum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89308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wo parallel docu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351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set the</a:t>
            </a: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direction for student learning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&amp; provide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guidance for school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s they design &amp; review their curricul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600" spc="-1" strike="noStrike">
                <a:solidFill>
                  <a:srgbClr val="000000"/>
                </a:solidFill>
                <a:latin typeface="Arial"/>
              </a:rPr>
              <a:t>Te Marautanga o Aotearoa  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(Dr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600" spc="-1" strike="noStrike">
                <a:solidFill>
                  <a:srgbClr val="000000"/>
                </a:solidFill>
                <a:latin typeface="Arial"/>
              </a:rPr>
              <a:t>The New Zealand Curriculum</a:t>
            </a:r>
            <a:r>
              <a:rPr b="0" i="1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for English-medium teaching &amp; learning in years 1 -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urriculum Logo 1"/>
          <p:cNvPicPr/>
          <p:nvPr/>
        </p:nvPicPr>
        <p:blipFill>
          <a:blip r:embed="rId1"/>
          <a:stretch/>
        </p:blipFill>
        <p:spPr>
          <a:xfrm>
            <a:off x="0" y="0"/>
            <a:ext cx="20509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Monotype Corsiva"/>
              </a:rPr>
              <a:t>Maori Medium Schoo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353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eaching and learning is essentially in the medium of Ma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se schools inclu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ura Kaupapa Mäori  - based on principles of    Aho Mat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cial character schools- Tribal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ori language immersion units in English medium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5589720"/>
            <a:ext cx="6985080" cy="1268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Sans Unicode"/>
              </a:rPr>
              <a:t>TE KAUPAPA MARAUTANGA O 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94472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Monotype Corsiva"/>
              </a:rPr>
              <a:t>The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5589720"/>
            <a:ext cx="6985080" cy="1268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Sans Unicode"/>
              </a:rPr>
              <a:t>TE KAUPAPA MARAUTANGA O 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944720" cy="1220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5157720"/>
            <a:ext cx="244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Marau must reflect Maori philosophies, pedagogy, tikanga, world-views and ‘ways of knowin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Comprehensive, inclusive, holistic, integrative curriculum framework that reflects Mäori status as tangata when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That Marautanga are relevant to iwi, hapu and  communities i.e. tikanga, hi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Monotype Corsiva"/>
              </a:rPr>
              <a:t>The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5589720"/>
            <a:ext cx="6985080" cy="1268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Sans Unicode"/>
              </a:rPr>
              <a:t>TE KAUPAPA MARAUTANGA O 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944720" cy="1220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157720"/>
            <a:ext cx="244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557360"/>
            <a:ext cx="8280360" cy="40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Recognise the role of parents, the kura, the whänau in the education of tamar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Enable students to be Maori and to be citizen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Promote Maori values and be flexible enough to allow kura to reflect the values of their local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Monotype Corsiva"/>
              </a:rPr>
              <a:t>The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5589720"/>
            <a:ext cx="6985080" cy="1268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Sans Unicode"/>
              </a:rPr>
              <a:t>TE KAUPAPA MARAUTANGA O 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944720" cy="1220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5157720"/>
            <a:ext cx="244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765000"/>
            <a:ext cx="828036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The need to support the development of  Maori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Notions of wänanga- concern with thinking &amp; challe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Unlocking creative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Establishment of effective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Learning that engages students in a way that develops positive 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To encourage critical and creative thin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0:51:57Z</dcterms:created>
  <dc:creator>Beth Dungey</dc:creator>
  <dc:description/>
  <dc:language>en-US</dc:language>
  <cp:lastModifiedBy>Beth Dungey</cp:lastModifiedBy>
  <dcterms:modified xsi:type="dcterms:W3CDTF">2008-02-26T00:18:28Z</dcterms:modified>
  <cp:revision>8</cp:revision>
  <dc:subject/>
  <dc:title>Sector Leaders Day</dc:title>
</cp:coreProperties>
</file>